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E2B1-C9FB-403C-96E4-87D1254C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B060-25FB-4730-B9A8-FC7C5BF9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006-8CF4-4EB8-BF42-F22D1819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29EB-A43C-49FB-BBBF-C6EB141F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F12B-3C34-4A9E-9BFC-5BECF359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171-ADA0-4743-87CE-916DA790F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9C2B-96FD-4EBC-9E7C-BF30D068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5C6-6A48-481C-80D7-43460E5E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8205-00F8-427B-9340-286285B7C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643-B1EC-43CC-9450-5300BA65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BBA3-58B7-4711-8846-B550A07A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3060-96D8-48CB-9106-21C16D1A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BBD8-A0E2-4E97-BD5D-7425EE5D5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journals.plos.org/plosone/article?id=10.1371/journal.pone.0144239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88840" y="863640"/>
            <a:ext cx="826776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 2. Genomic Contribu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lack DH, Dobson LK, du Toit JT, Derr J (2015) Genetic Analysis of the Henry Mountains Bison Herd. PLOS ONE 10(12): e0144239. https://doi.org/10.1371/journal.pone.0144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journals.plos.org/plosone/article?id=10.1371/journal.pone.0144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